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492-B760-47AF-8E21-A35D5C37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7F6-53C3-4F44-BA98-AFA10DB5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940-B251-466A-9F63-C7FAA029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235-797E-41B3-84ED-548C4712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9CB-88F6-4348-8B44-1E191076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D4D-A964-4B15-B6E2-604A7C40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4C0-23C5-40C5-8B16-EDF50A1C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E9B-3ADA-4D91-BD28-8144EB6A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1E3-11B6-41DA-B6D0-BF1B6132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190-98CA-4FDE-BFC8-E35CBAB0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CD5-5707-444E-A21F-9BA96983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AE0-0948-4B51-9D4D-51CBDE5F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B460-CC81-4B5A-9B8F-70E3E6B3F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logs.phillymag.com/bridal_bulletin/files/2010/11/Greece-Mykonos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52388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3086280" cy="205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3352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876920" y="3581280"/>
            <a:ext cx="32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Go to fullsize image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71600" y="762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ce became independent in 18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30000" y="4320"/>
            <a:ext cx="607716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ed in Olympia, Greece in 776 B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reece’s capital city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letters make up the Greek alphab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reece’s national chee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urrency used in Gree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Greeks work in agricul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wo major geographic features shape Gree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islands are apart of Gree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religion do ninety-eight percent of Greeks belong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major holiday in Gree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808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rst Olym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066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1752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2362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2971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733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in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4419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ntains and S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502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57150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k Orthodox Church ~ Christ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6477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228600"/>
            <a:ext cx="807696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905120"/>
            <a:ext cx="39625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ing countries are Albania, Macedonia, Bulgaria, Tur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ing bodies of water are Mediterranean Sea, Aegean Sea, Ionian Sea, Sea of 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mp000082" descr="Greece"/>
          <p:cNvPicPr/>
          <p:nvPr/>
        </p:nvPicPr>
        <p:blipFill>
          <a:blip r:embed="rId1"/>
          <a:stretch/>
        </p:blipFill>
        <p:spPr>
          <a:xfrm>
            <a:off x="4038480" y="1066680"/>
            <a:ext cx="47815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609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is At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Athens skyline"/>
          <p:cNvPicPr/>
          <p:nvPr/>
        </p:nvPicPr>
        <p:blipFill>
          <a:blip r:embed="rId1"/>
          <a:stretch/>
        </p:blipFill>
        <p:spPr>
          <a:xfrm>
            <a:off x="762120" y="14479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291360" cy="4721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0348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54100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s cover most of Greece, land is rocky with little fertile soil, summers are hot and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Snow in Greece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857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ter – ¾ of rain falls, mild and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er – hot, dry, very su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6296040" cy="4257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38080" y="685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ce is a seafaring country because you are never far from the sea, 1/5 of Greece is islands, land is not very good for f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457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ity-state is the city/town and the surrounding villages and farm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1629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928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22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k city-states were independent, small in size, quarreled among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533520"/>
            <a:ext cx="38098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ncient Greek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o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a common language, religion, an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zed their freedom and way of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ve thin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67280" y="2971800"/>
            <a:ext cx="50767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2:16:24Z</dcterms:created>
  <dc:creator>gehadde</dc:creator>
  <dc:description/>
  <dc:language>en-US</dc:language>
  <cp:lastModifiedBy>gehadde</cp:lastModifiedBy>
  <dcterms:modified xsi:type="dcterms:W3CDTF">2012-04-20T13:07:25Z</dcterms:modified>
  <cp:revision>22</cp:revision>
  <dc:subject/>
  <dc:title>WARM-UP:</dc:title>
</cp:coreProperties>
</file>